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EFF-0164-48E8-9AFB-0A14FD68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849-7E74-49C8-9701-A3DBF4FF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5D5-FD8C-416A-BE6C-19CA7E3A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534-449A-4480-AE86-2854AB01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EA5-6094-435C-BBF9-AA20A41E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20B-B75D-4915-8501-8110A84D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AA3-E7D4-4632-A14C-A05714A6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BE7-73C2-4363-82F3-B176F18B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D9D-01D9-4980-ABEC-A1C70E1E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7AC-1FFD-48B8-A295-3299D40D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1D2-65B9-4C0A-BE3F-A04F3AB4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D02-6E40-4E9A-A4B0-CCE429CC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B529-92B8-4F00-987B-D222F9654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cc"/>
                </a:solidFill>
                <a:latin typeface="Times New Roman"/>
              </a:rPr>
              <a:t>Writing Book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CLIPART\HOMEANIM\AG00343_.GIF"/>
          <p:cNvPicPr/>
          <p:nvPr/>
        </p:nvPicPr>
        <p:blipFill>
          <a:blip r:embed="rId1"/>
          <a:stretch/>
        </p:blipFill>
        <p:spPr>
          <a:xfrm>
            <a:off x="1709640" y="3886200"/>
            <a:ext cx="2100240" cy="2590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4648320" y="4191120"/>
            <a:ext cx="29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...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6172200" y="609480"/>
            <a:ext cx="1981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44193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داية الج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شخاص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لقاب الأشخا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لغ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م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ناو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ش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ي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'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'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ضمي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عنوان 1"/>
          <p:cNvSpPr/>
          <p:nvPr/>
        </p:nvSpPr>
        <p:spPr>
          <a:xfrm>
            <a:off x="4572000" y="228600"/>
            <a:ext cx="419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روف الكبي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5181480" y="1752480"/>
            <a:ext cx="3581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حروف الكبيرة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في نهاية كل جم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بعد الاختصار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ull  Stop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نقاط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نقاط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مفرد نضع ، ثم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جمع نض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ثم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مع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و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371600" y="53352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postrophes 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</a:rPr>
              <a:t>الفواصل العلي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فواصل العليا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ين الأشياء في القوائ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كلمات الافتتاح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عبارات الطوي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في نهاية الجم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أسئلة الذي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خانة الأل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ي مواضع خاصة من 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37160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ommas 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</a:rPr>
              <a:t>الفواص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438280" y="1523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</a:rPr>
              <a:t>الفواصل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371600" y="53352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ى الفراغ في بداية كل قطعة بمقدار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حر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te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ot out of my fa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ca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 saw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 o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led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et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bruary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t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r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was at his bro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hospital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aid she wanted to lear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ma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kniv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box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oma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sta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app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pa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شابه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ناقض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جمل بها اختي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عند الربط نحذف الكلمات المتكر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981080" y="60948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الروابط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22:52Z</dcterms:created>
  <dc:creator>Bafayad</dc:creator>
  <dc:description/>
  <dc:language>en-US</dc:language>
  <cp:lastModifiedBy>- </cp:lastModifiedBy>
  <dcterms:modified xsi:type="dcterms:W3CDTF">2007-02-24T21:08:30Z</dcterms:modified>
  <cp:revision>15</cp:revision>
  <dc:subject/>
  <dc:title>Writing Book</dc:title>
</cp:coreProperties>
</file>